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jpeg" ContentType="image/jpeg"/>
  <Override PartName="/ppt/media/image13.png" ContentType="image/png"/>
  <Override PartName="/ppt/media/image18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B974-E6E6-4B97-A230-729BD274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73AB-C9A3-4B3B-8EE2-B25F0B4F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50BA-21AC-4259-8C3B-C7040CEA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26FB-8032-4CF3-9936-56FC4688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5170-A92D-4BA7-90D9-2AB45CBC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480E-F3CE-4EAF-96DF-96B24776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9C44-E5C5-4766-96A1-07B15E5B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8E58-EEE2-4329-8653-6D5ACC2F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D4EB-53D2-4836-ACA1-F8CF783E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7043-B917-41BD-BEFE-340432F7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36F2-DDA5-4FCE-B7D8-26B4570A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1BC4-EF2C-4E52-8342-2C0E3346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BC7E-ED17-4214-B9C3-97DFA08E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D1E3-E98D-4E31-96E8-5BE755BE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F436-E6B7-481F-89E9-2C1482BF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745C-7D61-4BCA-AADC-629155E7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AAA3-3562-43D0-AE56-987ED70E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6E98-AD13-4915-A68D-7919387E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BF30-FFF0-4E86-8D7C-A3195A6D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F6B8-C429-4F2F-B8D0-64D102ED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1E90-127E-4CA8-8387-6415457D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95F2-179C-4955-9920-859E2D98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4B9C-F8B6-44B9-BFAE-5B244BFA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8387-23FA-431C-B5D3-900C63BF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3B99-EBAC-4096-A568-342672867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0618-24D8-4DC8-8962-1FE4AA60C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ig.cox.miami.edu/~cmallery/150/memb/fluidmosaic.jpg" TargetMode="External"/><Relationship Id="rId2" Type="http://schemas.openxmlformats.org/officeDocument/2006/relationships/hyperlink" Target="http://fig.cox.miami.edu/~cmallery/150/cells/c7x14blysosomes.jpg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orthland.cc.mn.us/biology/Biology1111/animations/transport1.html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clark.net/osmosisPocus.gif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fig.cox.miami.edu/~cmallery/150/memb/uniport.jpg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9903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Cell Membrane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419720" cy="419256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Maiandra GD"/>
              </a:rPr>
              <a:t>Another model of phospholipid bilayer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66680" y="2019240"/>
            <a:ext cx="7620120" cy="358164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Maiandra GD"/>
              </a:rPr>
              <a:t>Why does the phospholipid have a head and a tail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The head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Maiandra GD"/>
              </a:rPr>
              <a:t>hydrophilic</a:t>
            </a: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it likes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The tail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Maiandra GD"/>
              </a:rPr>
              <a:t>hydrophobic</a:t>
            </a: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it doesn’t lik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These 2 parts function to create a barrier between the liquid outside and inside the cell.  The strength of the barrier depends on the type of fats in the tail of the phospholip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fig.cox.miami.edu/~cmallery/150/memb/c8x4memb-fluidity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Maiandra GD"/>
              </a:rPr>
              <a:t>How does the cell membrane control what goes into and out of the cell?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Maiandra GD"/>
              </a:rPr>
              <a:t>[4 Ways]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Maiandra GD"/>
              </a:rPr>
              <a:t>Active transpor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Maiandra GD"/>
              </a:rPr>
              <a:t>Passive transpor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660066"/>
                </a:solidFill>
                <a:uFillTx/>
                <a:latin typeface="Maiandra GD"/>
                <a:hlinkClick r:id="rId1"/>
              </a:rPr>
              <a:t>CARRIER PROTEINS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aiandra GD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660066"/>
                </a:solidFill>
                <a:uFillTx/>
                <a:latin typeface="Maiandra GD"/>
                <a:hlinkClick r:id="rId2"/>
              </a:rPr>
              <a:t>ENGULFING particl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Maiandra GD"/>
              </a:rPr>
              <a:t>Introduction to transpor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Transport 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– movement across the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Two types 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of transport</a:t>
            </a: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Passive &amp;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Maiandra GD"/>
                <a:hlinkClick r:id="rId1"/>
              </a:rPr>
              <a:t>animations of passive and active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Concentration Gradient –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 movement of things from areas of high concentration to areas of low concentr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Maiandra GD"/>
              </a:rPr>
              <a:t>What is Passive Transport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aiandra G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iandra GD"/>
              </a:rPr>
              <a:t>does NOT require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aiandra G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iandra GD"/>
              </a:rPr>
              <a:t>goes with the concentration grad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Demonstration – marker rolling down the angled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Maiandra GD"/>
              </a:rPr>
              <a:t>What are the forms of passive transport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Dif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Osm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Facilitated dif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Ion chann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at is </a:t>
            </a:r>
            <a:r>
              <a:rPr b="0" lang="en-US" sz="4400" spc="-1" strike="noStrike">
                <a:solidFill>
                  <a:srgbClr val="221304"/>
                </a:solidFill>
                <a:latin typeface="Maiandra GD"/>
              </a:rPr>
              <a:t>Diffusion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Diffusion 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is movement from high concentration to low concentration in order to reach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Smell of cookies traveling through the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Food coloring diffuses through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People spread out in a ro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Equilibrium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 means the concentration is the same throughout th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Maiandra GD"/>
              </a:rPr>
              <a:t>What is Osmosis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Diffusion of or through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13320" y="1066680"/>
            <a:ext cx="4646520" cy="541044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Maiandra GD"/>
              </a:rPr>
              <a:t>Osmotic solut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hypertonic solution  =  "more solute, less water"     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hypotonic solution    =  "less solute, more water" 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isotonic solution       =  "equal solute and water"    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animation showing osmotic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Maiandra GD"/>
              </a:rPr>
              <a:t>Facilitated diffusion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086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Molecules that can not pass through the lipid bilayer on their own pass through special protein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3880" y="3276720"/>
            <a:ext cx="6705720" cy="260496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ssignm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py these notes a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your reading on the cell membrane (p182 -189 of your Unit 3 pack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your notes and book to complete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zz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the “osmotic egg”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Maiandra GD"/>
              </a:rPr>
              <a:t>Ion channels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 pum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ted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perative ion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2819520" cy="2187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257800" y="1905120"/>
            <a:ext cx="3305160" cy="2124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743200" y="4495680"/>
            <a:ext cx="4114800" cy="264960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Maiandra GD"/>
              </a:rPr>
              <a:t>Na-K Pump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162920" cy="484812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Maiandra GD"/>
              </a:rPr>
              <a:t>Points of intere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In pumps, it is possible for more than solute to be transported at 1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uniport  -  single solute in one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symport -  2 solutes simultaneously in same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aiandra G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Often one is actively transported and the other is passively transp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Maiandra GD"/>
                <a:hlinkClick r:id="rId1"/>
              </a:rPr>
              <a:t>antiport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*  -  1 solute in &amp; 1 solute out -opposite dire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Maiandra GD"/>
              </a:rPr>
              <a:t>What is Active Transport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iandra GD"/>
              </a:rPr>
              <a:t>requires energ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iandra GD"/>
              </a:rPr>
              <a:t>goes against the concentration grad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Demonstration – rolling marker up an angled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Maiandra GD"/>
              </a:rPr>
              <a:t>What are the Forms of Active Transport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Some protein path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Endocytosis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Exocytosis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Maiandra GD"/>
              </a:rPr>
              <a:t>What is a pathway?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3427200" cy="510552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Maiandra GD"/>
              </a:rPr>
              <a:t>What is </a:t>
            </a:r>
            <a:r>
              <a:rPr b="1" lang="en-US" sz="4400" spc="-1" strike="noStrike">
                <a:solidFill>
                  <a:srgbClr val="221304"/>
                </a:solidFill>
                <a:latin typeface="Maiandra GD"/>
              </a:rPr>
              <a:t>Endocytosis</a:t>
            </a:r>
            <a:r>
              <a:rPr b="0" lang="en-US" sz="4400" spc="-1" strike="noStrike">
                <a:solidFill>
                  <a:srgbClr val="221304"/>
                </a:solidFill>
                <a:latin typeface="Maiandra GD"/>
              </a:rPr>
              <a:t> 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34304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aiandra GD"/>
              </a:rPr>
              <a:t>Endocytosis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– cell ingests stuff from the environment and forms ves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aiandra GD"/>
              </a:rPr>
              <a:t>Pinocytosis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– involves flu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aiandra GD"/>
              </a:rPr>
              <a:t>Phagocytosis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– involves part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2916360" cy="23619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3276720" cy="211320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Maiandra GD"/>
              </a:rPr>
              <a:t>What is Exocytosis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1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Exocytosis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 – vesicle releases contents from a cell to the out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Gets rid of w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Transports out items produced by the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800600" y="2217600"/>
            <a:ext cx="3886200" cy="364968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Maiandra GD"/>
              </a:rPr>
              <a:t>Labs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Complete the assigned labs (carrot and egg) to view osmosis and dif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irst a Review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karyotes / Eukary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21304"/>
                </a:solidFill>
                <a:latin typeface="Maiandra GD"/>
              </a:rPr>
              <a:t>Cell theory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All living things are made of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Cell can only come from other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All functions of a living thing are carried out in cells (respiration, metabolism, growth, adaptations to the environment, reproduction, homeostasis and interdepend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Maiandra GD"/>
              </a:rPr>
              <a:t>Prokaryotes &amp;Eukaryot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aiandra GD"/>
              </a:rPr>
              <a:t>Prokary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Have </a:t>
            </a:r>
            <a:r>
              <a:rPr b="1" lang="en-US" sz="2800" spc="-1" strike="noStrike">
                <a:solidFill>
                  <a:srgbClr val="000000"/>
                </a:solidFill>
                <a:latin typeface="Maiandra GD"/>
              </a:rPr>
              <a:t>plasmid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Are </a:t>
            </a:r>
            <a:r>
              <a:rPr b="1" lang="en-US" sz="2800" spc="-1" strike="noStrike">
                <a:solidFill>
                  <a:srgbClr val="000000"/>
                </a:solidFill>
                <a:latin typeface="Maiandra GD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in co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lack membrane bound organ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aiandra GD"/>
              </a:rPr>
              <a:t>Eukary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Have </a:t>
            </a:r>
            <a:r>
              <a:rPr b="1" lang="en-US" sz="2800" spc="-1" strike="noStrike">
                <a:solidFill>
                  <a:srgbClr val="000000"/>
                </a:solidFill>
                <a:latin typeface="Maiandra GD"/>
              </a:rPr>
              <a:t>nuclear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bound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Are </a:t>
            </a:r>
            <a:r>
              <a:rPr b="1" lang="en-US" sz="2800" spc="-1" strike="noStrike">
                <a:solidFill>
                  <a:srgbClr val="000000"/>
                </a:solidFill>
                <a:latin typeface="Maiandra GD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Have membrane bound organ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400" y="3045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 u="sng">
                <a:solidFill>
                  <a:srgbClr val="000000"/>
                </a:solidFill>
                <a:uFillTx/>
                <a:latin typeface="Showcard Gothic"/>
              </a:rPr>
              <a:t>ALL</a:t>
            </a:r>
            <a:r>
              <a:rPr b="0" lang="en-US" sz="7400" spc="-1" strike="noStrike">
                <a:solidFill>
                  <a:srgbClr val="000000"/>
                </a:solidFill>
                <a:latin typeface="Showcard Gothic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Showcard Gothic"/>
              </a:rPr>
              <a:t>CELL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wcard Gothic"/>
              </a:rPr>
              <a:t>(Yes, both prokaryotes and eukaryotes)</a:t>
            </a:r>
            <a:r>
              <a:rPr b="0" lang="en-US" sz="6000" spc="-1" strike="noStrike">
                <a:solidFill>
                  <a:srgbClr val="000000"/>
                </a:solidFill>
                <a:latin typeface="Showcard Goth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howcard Gothic"/>
              </a:rPr>
              <a:t>have a</a:t>
            </a:r>
            <a:r>
              <a:rPr b="0" lang="en-US" sz="6000" spc="-1" strike="noStrike">
                <a:solidFill>
                  <a:srgbClr val="000000"/>
                </a:solidFill>
                <a:latin typeface="Showcard Goth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Showcard Gothic"/>
              </a:rPr>
              <a:t>CELL MEMBRANE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at is a cell </a:t>
            </a:r>
            <a:r>
              <a:rPr b="0" lang="en-US" sz="4400" spc="-1" strike="noStrike">
                <a:solidFill>
                  <a:srgbClr val="221304"/>
                </a:solidFill>
                <a:latin typeface="Maiandra GD"/>
              </a:rPr>
              <a:t>membrane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A cell membrane is the part of a cell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provides </a:t>
            </a:r>
            <a:r>
              <a:rPr b="1" lang="en-US" sz="2800" spc="-1" strike="noStrike">
                <a:solidFill>
                  <a:srgbClr val="000000"/>
                </a:solidFill>
                <a:latin typeface="Maiandra GD"/>
              </a:rPr>
              <a:t>stru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aiandra GD"/>
              </a:rPr>
              <a:t>regulates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what goes into and out of the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29000" y="3962520"/>
            <a:ext cx="4800600" cy="252252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Maiandra GD"/>
              </a:rPr>
              <a:t>What is a cell membrane made of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A cell membrane is mad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a phospholipid bi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Phospho = phosph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Lipid= f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Bi = 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And other things we’ll talk about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 % composition of lipids in various cell memb. http://fig.cox.miami.edu/~cmallery/150/memb/Lipidtbl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360520"/>
            <a:ext cx="3962520" cy="307512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Maiandra GD"/>
              </a:rPr>
              <a:t>What does the phospholipid bilayer look like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4038480" cy="3130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057400" y="1676520"/>
            <a:ext cx="5715000" cy="368928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1T03:58:50Z</dcterms:created>
  <dc:creator>sada</dc:creator>
  <dc:description/>
  <dc:language>en-US</dc:language>
  <cp:lastModifiedBy>SGANSK</cp:lastModifiedBy>
  <dcterms:modified xsi:type="dcterms:W3CDTF">2008-06-23T17:46:04Z</dcterms:modified>
  <cp:revision>27</cp:revision>
  <dc:subject/>
  <dc:title>The Cell Membrane </dc:title>
</cp:coreProperties>
</file>